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181-1998-4931-955B-BCEF84BC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939-1B9E-4B00-88C1-92AC731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1E6-7E30-4F34-85DB-744A6230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767-01FF-4E03-8EA1-83C7A8DD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AD5E-806B-447F-A7E1-5FAEC82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D29C-FC16-4F6A-829D-3774B19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51D-1121-40F7-9F5D-3A9D505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6E3-A887-4B70-91A0-7D02924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7DC4-81E3-4694-9777-7C52767B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403-F332-40C6-9408-1F2BBAA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B856-6B7F-4999-8B37-3206668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53B-11D3-49BF-91DA-1B95988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94E1-7EC6-4A06-AD30-88FA11B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A7B1-7590-42FE-A565-C63689D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E39-5E60-4842-A7F3-0BF9F46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F74F-BB30-464E-A0CC-575B3F63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BDC-EC64-473D-8B95-40989286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DB7-7909-4CDE-85EF-7469DB4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7A8-0A35-4751-B554-611DB776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666-736F-4091-9B27-355CF570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F69-C287-47AF-9429-7EDA207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2C8-9979-440C-A1EA-2F56B85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4B8-EFBA-49E6-9CF9-8102FF4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4E7-C51F-44EB-8B4E-5C8A27B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893-51D4-4699-8964-5F3F4BFC4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592-B1ED-455A-96C1-F3187846B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A6F-53CC-405A-B728-17908F7E2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ang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54A-8711-4282-A487-63FC8411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OREM #1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7" name="Object 36"/>
          <p:cNvGraphicFramePr/>
          <p:nvPr/>
        </p:nvGraphicFramePr>
        <p:xfrm>
          <a:off x="6400800" y="3505320"/>
          <a:ext cx="2214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05320"/>
                    <a:ext cx="2214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"/>
          <p:cNvGraphicFramePr/>
          <p:nvPr/>
        </p:nvGraphicFramePr>
        <p:xfrm>
          <a:off x="990720" y="2743200"/>
          <a:ext cx="168732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1687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2"/>
          <p:cNvGraphicFramePr/>
          <p:nvPr/>
        </p:nvGraphicFramePr>
        <p:xfrm>
          <a:off x="7543800" y="2743200"/>
          <a:ext cx="5335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743200"/>
                    <a:ext cx="533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Group 9"/>
          <p:cNvGrpSpPr/>
          <p:nvPr/>
        </p:nvGrpSpPr>
        <p:grpSpPr>
          <a:xfrm>
            <a:off x="533520" y="3429000"/>
            <a:ext cx="2819160" cy="2387160"/>
            <a:chOff x="533520" y="3429000"/>
            <a:chExt cx="2819160" cy="2387160"/>
          </a:xfrm>
        </p:grpSpPr>
        <p:pic>
          <p:nvPicPr>
            <p:cNvPr id="104" name="Picture 4" descr=""/>
            <p:cNvPicPr/>
            <p:nvPr/>
          </p:nvPicPr>
          <p:blipFill>
            <a:blip r:embed="rId7"/>
            <a:stretch/>
          </p:blipFill>
          <p:spPr>
            <a:xfrm>
              <a:off x="533520" y="3486240"/>
              <a:ext cx="2819160" cy="23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/>
            <p:cNvSpPr/>
            <p:nvPr/>
          </p:nvSpPr>
          <p:spPr>
            <a:xfrm>
              <a:off x="1411920" y="3429000"/>
              <a:ext cx="3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2099520" y="400536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039480" y="48150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1347840" y="481500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3962520" y="3505320"/>
            <a:ext cx="2014560" cy="2514600"/>
            <a:chOff x="3962520" y="3505320"/>
            <a:chExt cx="2014560" cy="2514600"/>
          </a:xfrm>
        </p:grpSpPr>
        <p:sp>
          <p:nvSpPr>
            <p:cNvPr id="110" name="AutoShape 13"/>
            <p:cNvSpPr/>
            <p:nvPr/>
          </p:nvSpPr>
          <p:spPr>
            <a:xfrm>
              <a:off x="3962520" y="3505320"/>
              <a:ext cx="20145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>
              <a:off x="4118040" y="4249800"/>
              <a:ext cx="1703160" cy="16207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4962240" y="4472280"/>
              <a:ext cx="577800" cy="5806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5273640" y="4338720"/>
              <a:ext cx="125280" cy="1494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5273640" y="4488120"/>
              <a:ext cx="141480" cy="118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5415120" y="4472280"/>
              <a:ext cx="125280" cy="1346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4898880" y="3892680"/>
              <a:ext cx="641520" cy="5796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4898880" y="3892680"/>
              <a:ext cx="63720" cy="116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2"/>
            <p:cNvSpPr/>
            <p:nvPr/>
          </p:nvSpPr>
          <p:spPr>
            <a:xfrm>
              <a:off x="5289120" y="40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3"/>
            <p:cNvSpPr/>
            <p:nvPr/>
          </p:nvSpPr>
          <p:spPr>
            <a:xfrm>
              <a:off x="5243040" y="482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4"/>
            <p:cNvSpPr/>
            <p:nvPr/>
          </p:nvSpPr>
          <p:spPr>
            <a:xfrm>
              <a:off x="4930920" y="502308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5"/>
            <p:cNvSpPr/>
            <p:nvPr/>
          </p:nvSpPr>
          <p:spPr>
            <a:xfrm>
              <a:off x="4868640" y="511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6"/>
            <p:cNvSpPr/>
            <p:nvPr/>
          </p:nvSpPr>
          <p:spPr>
            <a:xfrm>
              <a:off x="5508720" y="444204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7"/>
            <p:cNvSpPr/>
            <p:nvPr/>
          </p:nvSpPr>
          <p:spPr>
            <a:xfrm>
              <a:off x="5601960" y="4338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>
              <a:off x="4869000" y="386244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4727160" y="3654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30"/>
          <p:cNvSpPr/>
          <p:nvPr/>
        </p:nvSpPr>
        <p:spPr>
          <a:xfrm>
            <a:off x="38098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25780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304920" y="1828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a line is tangent to a circle, then it is perpendicular to the radius drawn to the point of tan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3657600" y="2666880"/>
            <a:ext cx="0" cy="358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084B-6123-4B86-98AC-A1C3BB5C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OREM #2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3" name="Object 48"/>
          <p:cNvGraphicFramePr/>
          <p:nvPr/>
        </p:nvGraphicFramePr>
        <p:xfrm>
          <a:off x="3352680" y="2438280"/>
          <a:ext cx="25909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25909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30492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wo segments from the same exterior point are tangent to a circl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28600" y="3124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4495680" y="4038480"/>
            <a:ext cx="4038840" cy="2324160"/>
            <a:chOff x="4495680" y="4038480"/>
            <a:chExt cx="4038840" cy="2324160"/>
          </a:xfrm>
        </p:grpSpPr>
        <p:sp>
          <p:nvSpPr>
            <p:cNvPr id="138" name="AutoShape 8"/>
            <p:cNvSpPr/>
            <p:nvPr/>
          </p:nvSpPr>
          <p:spPr>
            <a:xfrm>
              <a:off x="4495680" y="4038480"/>
              <a:ext cx="40388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160960" y="4616280"/>
              <a:ext cx="1204920" cy="12067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H="1">
              <a:off x="4822560" y="4376520"/>
              <a:ext cx="695160" cy="1359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5518080" y="4376520"/>
              <a:ext cx="2737080" cy="1648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4822920" y="5735520"/>
              <a:ext cx="3432240" cy="28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881600" y="58896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5199120" y="58896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4630680" y="44244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4948200" y="44244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7031160" y="5002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7348680" y="50022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8236080" y="6005520"/>
              <a:ext cx="47520" cy="48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8283240" y="5986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5497560" y="43560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5450040" y="4135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4803840" y="571644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640400" y="561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5738760" y="519588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7"/>
            <p:cNvSpPr/>
            <p:nvPr/>
          </p:nvSpPr>
          <p:spPr>
            <a:xfrm>
              <a:off x="6048360" y="46846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6095520" y="4471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5208480" y="492588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016600" y="4800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5691240" y="57942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5672160" y="5803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5791320" y="2133720"/>
            <a:ext cx="3352680" cy="2549520"/>
            <a:chOff x="5791320" y="2133720"/>
            <a:chExt cx="3352680" cy="2549520"/>
          </a:xfrm>
        </p:grpSpPr>
        <p:sp>
          <p:nvSpPr>
            <p:cNvPr id="163" name="AutoShape 33"/>
            <p:cNvSpPr/>
            <p:nvPr/>
          </p:nvSpPr>
          <p:spPr>
            <a:xfrm>
              <a:off x="5791320" y="2133720"/>
              <a:ext cx="335268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5"/>
            <p:cNvSpPr/>
            <p:nvPr/>
          </p:nvSpPr>
          <p:spPr>
            <a:xfrm>
              <a:off x="5991120" y="2695680"/>
              <a:ext cx="1747800" cy="17463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7015320" y="2716200"/>
              <a:ext cx="1645920" cy="320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7"/>
            <p:cNvSpPr/>
            <p:nvPr/>
          </p:nvSpPr>
          <p:spPr>
            <a:xfrm flipH="1">
              <a:off x="7437240" y="3036960"/>
              <a:ext cx="1223640" cy="1144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8"/>
            <p:cNvSpPr/>
            <p:nvPr/>
          </p:nvSpPr>
          <p:spPr>
            <a:xfrm>
              <a:off x="8159760" y="3338640"/>
              <a:ext cx="160200" cy="200160"/>
            </a:xfrm>
            <a:prstGeom prst="line">
              <a:avLst/>
            </a:prstGeom>
            <a:ln w="60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 flipH="1">
              <a:off x="7959600" y="2756160"/>
              <a:ext cx="60480" cy="241200"/>
            </a:xfrm>
            <a:prstGeom prst="line">
              <a:avLst/>
            </a:prstGeom>
            <a:ln w="60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0"/>
            <p:cNvSpPr/>
            <p:nvPr/>
          </p:nvSpPr>
          <p:spPr>
            <a:xfrm>
              <a:off x="8621640" y="299736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8742240" y="28767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2"/>
            <p:cNvSpPr/>
            <p:nvPr/>
          </p:nvSpPr>
          <p:spPr>
            <a:xfrm>
              <a:off x="6815160" y="351972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3"/>
            <p:cNvSpPr/>
            <p:nvPr/>
          </p:nvSpPr>
          <p:spPr>
            <a:xfrm>
              <a:off x="6975360" y="2675160"/>
              <a:ext cx="10008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6875640" y="23338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7397640" y="414180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7437600" y="41608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7"/>
          <p:cNvSpPr/>
          <p:nvPr/>
        </p:nvSpPr>
        <p:spPr>
          <a:xfrm>
            <a:off x="16002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2"/>
          <p:cNvGraphicFramePr/>
          <p:nvPr/>
        </p:nvGraphicFramePr>
        <p:xfrm>
          <a:off x="3886200" y="3048120"/>
          <a:ext cx="182880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048120"/>
                    <a:ext cx="18288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4"/>
          <p:cNvSpPr/>
          <p:nvPr/>
        </p:nvSpPr>
        <p:spPr>
          <a:xfrm>
            <a:off x="533520" y="3581280"/>
            <a:ext cx="4419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f AB = 1.8 cm, then AF = 1.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 = AF +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 = 1.8 + 7.0 = 8.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f FE = 7.0 cm, then DE = 7.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= CD +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= 2.4 + 7.0 = 9.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9:33:15Z</dcterms:created>
  <dc:creator>Administrator</dc:creator>
  <dc:description/>
  <dc:language>en-US</dc:language>
  <cp:lastModifiedBy>chmorgan</cp:lastModifiedBy>
  <dcterms:modified xsi:type="dcterms:W3CDTF">2013-04-09T19:17:49Z</dcterms:modified>
  <cp:revision>19</cp:revision>
  <dc:subject/>
  <dc:title>8-3 TANGENTS</dc:title>
</cp:coreProperties>
</file>